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F47-11EB-4ADD-B8BF-0532D49F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18C-CA35-42B4-B40B-A2B2BF18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C12-189E-417E-9755-53F55CEF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ECD-2CE1-4B8A-A4EB-C6BCF832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A08E-17EB-42DB-951C-26ED6AD1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629C-C19A-44C7-B535-819C438D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DA73-676F-4622-B313-00E18CB7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E19-3B7D-4F36-98E7-3938C681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E672-489D-4FE2-BE65-8BB87ED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71F4-14A1-4BE2-BED5-02437F1B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A793-0EBF-4A16-9D2F-14A8941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B7E-2CC7-46D1-99A0-8EC9C84E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7DAF-B021-42D9-A32B-AD20107E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C224-4EF4-4A3D-B0CF-B302737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B18F-0D2D-4660-9D25-628ACC0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6C2C-C248-4E9E-A67B-742440B5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4F0C-602F-4874-A926-0CE9C1E4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D05-288C-431D-B5D5-A3B1D58B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6C7-AC27-4211-928C-A2DE8007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B06-52D8-4C46-ACC0-87057C2A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11C-0388-4CE1-89D1-30BE0F3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E2A-667B-4986-A740-B9EF207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DE2-545A-4949-904F-DACEB2C7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A11-BD9B-40CE-9AD7-25E9798E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6B31-7F6E-48E4-9D33-9B96ACBF0D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6AD-AC7F-4D42-8744-DA67FCFFD1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520120" cy="270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Квадратные уравнения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или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«Чем больше знаешь, тем быстрей считаешь»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Теорема Виет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b8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+ рх +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-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 •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q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611280" y="2205000"/>
          <a:ext cx="7561080" cy="3002040"/>
        </p:xfrm>
        <a:graphic>
          <a:graphicData uri="http://schemas.openxmlformats.org/drawingml/2006/table">
            <a:tbl>
              <a:tblPr/>
              <a:tblGrid>
                <a:gridCol w="2011320"/>
                <a:gridCol w="596880"/>
                <a:gridCol w="395280"/>
                <a:gridCol w="512640"/>
                <a:gridCol w="585720"/>
                <a:gridCol w="587520"/>
                <a:gridCol w="877680"/>
                <a:gridCol w="1100160"/>
                <a:gridCol w="8938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х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х+21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поняли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17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спомнить все!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484280"/>
            <a:ext cx="8280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ждой паре предлагается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Определение квадратн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Виды квадратных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Что называется дискриминантом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От чего зависит количество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Каковы формулы для нахождения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Формулировка теоремы Ви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2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и на квадратные уравнения встречаются в труд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йских математиков уже с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нашей эры. Вот од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задач индийского математик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Бхаска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зьянок резвых ст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асть поевши, развлека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х в квадрате часть восьм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оляне забавля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двенадцать по лианам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ли прыгать, повиса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ж было обезьянок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 скажите, в этой ста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700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1280" y="260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исьмо из прошлого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8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Эрудит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1142" t="32259" r="17576" b="23900"/>
          <a:stretch/>
        </p:blipFill>
        <p:spPr>
          <a:xfrm>
            <a:off x="395280" y="1415880"/>
            <a:ext cx="7993080" cy="414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33" name="Tree">
              <a:hlinkClick r:id="rId2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71640" y="2997360"/>
            <a:ext cx="72007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Приобретение навыков самостоятельной работы с большим объемом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увидеть проблему и наметить пути ее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составлять алгоритмы для способов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выбора рационального  способа решения квадратных  уравн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решать квадратное уравнение не одним способ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Сколькими  способами можешь решить квадратное уравнение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Что называется квадратным уравнением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ие есть виды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 выбрать рациональный способ решения квадратного уравне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Вопросы из истории развития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Сколькими способами можешь решить квадратное урав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х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вх+с =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тор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бодный чл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0" name=""/>
          <p:cNvCxnSpPr>
            <a:stCxn id="159" idx="1"/>
          </p:cNvCxnSpPr>
          <p:nvPr/>
        </p:nvCxnSpPr>
        <p:spPr>
          <a:xfrm>
            <a:off x="685800" y="3657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916360" y="162864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700280"/>
            <a:ext cx="288720" cy="1584360"/>
          </a:xfrm>
          <a:prstGeom prst="downArrow">
            <a:avLst>
              <a:gd name="adj1" fmla="val 50000"/>
              <a:gd name="adj2" fmla="val 1371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00280"/>
            <a:ext cx="288720" cy="2016000"/>
          </a:xfrm>
          <a:prstGeom prst="downArrow">
            <a:avLst>
              <a:gd name="adj1" fmla="val 50000"/>
              <a:gd name="adj2" fmla="val 17456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3933720"/>
            <a:ext cx="331308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ИДЫ КВАДРАТНЫХ УРАВН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21080" y="262404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21080" y="451476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3560" y="4005360"/>
                <a:ext cx="1952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492360" y="1341360"/>
            <a:ext cx="2737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35280" y="1700280"/>
          <a:ext cx="239580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2395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164360" y="5877000"/>
            <a:ext cx="1441440" cy="649080"/>
            <a:chOff x="7164360" y="5877000"/>
            <a:chExt cx="1441440" cy="649080"/>
          </a:xfrm>
        </p:grpSpPr>
        <p:sp>
          <p:nvSpPr>
            <p:cNvPr id="176" name=""/>
            <p:cNvSpPr/>
            <p:nvPr/>
          </p:nvSpPr>
          <p:spPr>
            <a:xfrm>
              <a:off x="7164360" y="5877000"/>
              <a:ext cx="1441440" cy="649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453080" y="6021360"/>
                  <a:ext cx="935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5003640" y="5229360"/>
            <a:ext cx="2016000" cy="1080720"/>
            <a:chOff x="5003640" y="5229360"/>
            <a:chExt cx="2016000" cy="1080720"/>
          </a:xfrm>
        </p:grpSpPr>
        <p:sp>
          <p:nvSpPr>
            <p:cNvPr id="179" name=""/>
            <p:cNvSpPr/>
            <p:nvPr/>
          </p:nvSpPr>
          <p:spPr>
            <a:xfrm>
              <a:off x="5003640" y="5229360"/>
              <a:ext cx="2016000" cy="1080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5153400" y="5554080"/>
                  <a:ext cx="16423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573360"/>
                <a:ext cx="306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6443640" y="4365720"/>
            <a:ext cx="2088720" cy="1008000"/>
            <a:chOff x="6443640" y="4365720"/>
            <a:chExt cx="2088720" cy="1008000"/>
          </a:xfrm>
        </p:grpSpPr>
        <p:sp>
          <p:nvSpPr>
            <p:cNvPr id="183" name=""/>
            <p:cNvSpPr/>
            <p:nvPr/>
          </p:nvSpPr>
          <p:spPr>
            <a:xfrm>
              <a:off x="6443640" y="4365720"/>
              <a:ext cx="2088720" cy="1008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6766200" y="4653000"/>
                  <a:ext cx="1527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>
            <a:hlinkClick r:id="" action="ppaction://hlinkshowjump?jump=nextslide"/>
            <a:hlinkClick r:id="rId3"/>
          </p:cNvPr>
          <p:cNvSpPr/>
          <p:nvPr/>
        </p:nvSpPr>
        <p:spPr>
          <a:xfrm>
            <a:off x="324000" y="33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308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4365720"/>
          <a:ext cx="3024000" cy="76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4365720"/>
                    <a:ext cx="3024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627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429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вед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пол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Существует 10 способов решения кадратных уравнений, мы рассмотрим с Вами самые осно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деление квадратного двучлен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шение с помощью дискримина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, обратная теореме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рафический способ решени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068640"/>
            <a:ext cx="4284720" cy="216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5080" y="32130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4149720"/>
          <a:ext cx="23749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149720"/>
                    <a:ext cx="23749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3373560"/>
                <a:ext cx="3240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580000" y="3429000"/>
            <a:ext cx="3097440" cy="1846440"/>
            <a:chOff x="5580000" y="3429000"/>
            <a:chExt cx="3097440" cy="1846440"/>
          </a:xfrm>
        </p:grpSpPr>
        <p:sp>
          <p:nvSpPr>
            <p:cNvPr id="200" name=""/>
            <p:cNvSpPr/>
            <p:nvPr/>
          </p:nvSpPr>
          <p:spPr>
            <a:xfrm>
              <a:off x="5580000" y="3502080"/>
              <a:ext cx="3097440" cy="1773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04000" y="342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867280" y="3646440"/>
                  <a:ext cx="2374920" cy="14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3419640" y="5345280"/>
            <a:ext cx="2571120" cy="1512720"/>
            <a:chOff x="3419640" y="5345280"/>
            <a:chExt cx="2571120" cy="1512720"/>
          </a:xfrm>
        </p:grpSpPr>
        <p:sp>
          <p:nvSpPr>
            <p:cNvPr id="204" name=""/>
            <p:cNvSpPr/>
            <p:nvPr/>
          </p:nvSpPr>
          <p:spPr>
            <a:xfrm>
              <a:off x="3419640" y="5345280"/>
              <a:ext cx="2571120" cy="1512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84360" y="5598000"/>
              <a:ext cx="103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&lt;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200" y="6102000"/>
              <a:ext cx="21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т  кор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116000" y="26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11280" y="765000"/>
            <a:ext cx="3529080" cy="1727280"/>
            <a:chOff x="2411280" y="765000"/>
            <a:chExt cx="3529080" cy="1727280"/>
          </a:xfrm>
        </p:grpSpPr>
        <p:sp>
          <p:nvSpPr>
            <p:cNvPr id="209" name=""/>
            <p:cNvSpPr/>
            <p:nvPr/>
          </p:nvSpPr>
          <p:spPr>
            <a:xfrm>
              <a:off x="2411280" y="765000"/>
              <a:ext cx="3529080" cy="172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2555640" y="1197000"/>
            <a:ext cx="309564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1197000"/>
                      <a:ext cx="309564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7:47:00Z</dcterms:created>
  <dc:creator>user</dc:creator>
  <dc:description/>
  <dc:language>en-US</dc:language>
  <cp:lastModifiedBy>Пользователь</cp:lastModifiedBy>
  <dcterms:modified xsi:type="dcterms:W3CDTF">2010-06-04T10:19:42Z</dcterms:modified>
  <cp:revision>44</cp:revision>
  <dc:subject/>
  <dc:title>Квадратные уравнения</dc:title>
</cp:coreProperties>
</file>